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6BDFA-64E1-4600-819D-F7A750F46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1F067-888C-4E15-9324-CCB21DC8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F72D7-EF1D-4799-A7E4-AB7360844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274D3-31B9-4468-A10C-8971037A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A0F86-89D0-4F0A-A563-BA8080EAB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0B46-AFA9-46D1-B54B-D06F33F60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36761-0080-4C85-BBF4-593DEE020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BF106-96CF-4A73-88DB-D298B8DFC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0114F-4BDF-4EB6-9B28-AC6F513F9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6D488-21EF-4A5C-AC5E-B20CBB43B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7D78E-1FFB-4AC5-BFED-A2ADB752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C134-6DE5-4044-9089-F37D97BA1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40ED-8B71-45F9-8A98-A3812BC9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FEC2D-B0A2-4C11-BDAD-66459531E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DD1B5-06DC-40C2-B54B-B9BF2439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CE8A9-89CA-4C03-8602-3D466557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F6118-B3A2-4EAB-9D51-33A76AF8D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45D86-54AC-4EF1-9115-E0D40A718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56C42-2722-4F0A-9E5A-1B4E64E81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A757B-AFA5-481E-B251-1B6374887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76527-67F9-4FC7-82D3-259625A9E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E3ABF-9404-4774-9EC8-4D444149E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5BC5E-B103-43F7-ACF9-15297BEEF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91C6A-DAA3-42E1-85A4-07810559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861FF-277D-464A-8AF5-01D0FD64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B43E6-500D-4291-B86F-1F91809E6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B7F62-F3BE-434B-9B14-B32806D04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C6F4F-75B9-4EE1-89E7-47509BF16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A013-EE86-4D7B-9E06-FE0BF4944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DA10-1925-4E9F-888B-2E04587C7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807F-41C7-4BE9-BEF2-7CB4C2FAE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4D89-0220-4F4B-9B19-D2BB2C6F8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B52F-7F1E-4ECA-9AC2-52F2C7041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7DFB-1F60-4889-8DCE-FBC770427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CFB4-4F00-495E-8512-2C54F030B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96D5-95E3-4FBF-8F58-0C38CF835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3601-4CE2-4ED6-9107-52F2EC273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0837-5BEC-4C1E-BC47-82AA35DFD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32DE-F587-4406-B499-34461E5AE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E29A-8AB5-4637-A68D-1D293E623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CD4ED-A816-411F-839F-2FAFB5AD1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 what will happen if a bike goes down a hill, then coasts on a flat surface without the rider peddl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735120" y="914400"/>
            <a:ext cx="8915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iction is created when an object moves across the ground or another sur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635880" y="4770360"/>
            <a:ext cx="3276360" cy="243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16080" y="4694400"/>
            <a:ext cx="2277720" cy="251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031080" y="3087720"/>
            <a:ext cx="2743200" cy="173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2589120" y="3262320"/>
            <a:ext cx="2925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914400" y="685800"/>
            <a:ext cx="84582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iction is a force that makes moving objects st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913280" y="408456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99880" y="4087800"/>
            <a:ext cx="2454480" cy="304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059280" y="2052720"/>
            <a:ext cx="236196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914400" y="914400"/>
            <a:ext cx="84582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What force makes a car slow down when you stop acceler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85800" y="635040"/>
            <a:ext cx="89154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me surfaces make more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8360" y="4317840"/>
            <a:ext cx="2362320" cy="23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462480" y="4317840"/>
            <a:ext cx="2352600" cy="235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68360" y="172260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6283440" y="2179800"/>
            <a:ext cx="2338200" cy="190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40160" y="240336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6411960" y="4413240"/>
            <a:ext cx="288432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66528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f there is a lot of friction, that will make an object stop f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632560" y="4008600"/>
            <a:ext cx="3522600" cy="26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325520" y="3398760"/>
            <a:ext cx="2171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46240" y="457200"/>
            <a:ext cx="912636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decide if something will make a lot of fric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: Is it easy to slide on in my so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asy to slide on = LOW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78460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85800" y="665280"/>
            <a:ext cx="891540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ntify each surface as high friction or low fric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Gl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Carp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 Gra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sible Forc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 tomorro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gratulations _______ - there were 123 jolly ranchers in the ja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914400" y="685800"/>
            <a:ext cx="641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't always see fo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508800" y="3246480"/>
            <a:ext cx="336060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830680" y="3665520"/>
            <a:ext cx="352404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63440" y="1874880"/>
            <a:ext cx="2433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14400" y="685800"/>
            <a:ext cx="86868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re are forces that are hard to 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Gr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Magne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85800" y="457200"/>
            <a:ext cx="9213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avity pulls objects towards the 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326360" y="1195560"/>
            <a:ext cx="2476440" cy="34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986440" y="4611600"/>
            <a:ext cx="3816360" cy="312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87480" y="4629240"/>
            <a:ext cx="3200400" cy="2620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592440" y="1671480"/>
            <a:ext cx="2543400" cy="447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266760" y="2027160"/>
            <a:ext cx="321300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85800" y="4572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avity is caused by the mass of the ear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100807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2280" y="152280"/>
            <a:ext cx="100807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" y="4389480"/>
            <a:ext cx="156528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077840" y="1874880"/>
            <a:ext cx="1981440" cy="201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5726160" y="1658880"/>
            <a:ext cx="3657600" cy="2720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6411960" y="5075280"/>
            <a:ext cx="297180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685800" y="457200"/>
            <a:ext cx="8686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etism pulls metal objects towards each o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49240" y="2062080"/>
            <a:ext cx="2895840" cy="266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694480" y="3246480"/>
            <a:ext cx="3460680" cy="231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2938320" y="5227560"/>
            <a:ext cx="233064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878040" y="109440"/>
            <a:ext cx="845820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You drop a watermelon off the roof of Oakhurs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Your magnet sticks to the fridg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 Sugar falls to the bottom of your gl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0:53:06Z</dcterms:created>
  <dc:creator>molly schumer</dc:creator>
  <dc:description/>
  <dc:language>en-US</dc:language>
  <cp:lastModifiedBy>Caroline Roth</cp:lastModifiedBy>
  <dcterms:modified xsi:type="dcterms:W3CDTF">2011-02-17T11:28:19Z</dcterms:modified>
  <cp:revision>9</cp:revision>
  <dc:subject/>
  <dc:title>PowerPoint Presentation</dc:title>
</cp:coreProperties>
</file>